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9336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96216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2028-EEB5-473A-B38C-6F7A6607C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A8AC-0EAC-420C-B158-A85EB49FFB9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03C3-2D62-4658-82B0-C9D9EDB0B0B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D8ED-17F8-4D34-A8D0-BF7BAB513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317D-0A54-424F-9CA6-AB4B6178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A66C-6699-42C9-99CE-D2A8E564D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41BC-738A-403D-BFC6-C37B7EEA9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7D7EA-3FAC-4A9A-A25E-27B35B939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00DC-19B4-497D-A80E-7650BCA0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5600-FCAB-4351-B637-EEDAACB9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417A-C2D1-4A9E-A6DB-5FFFCEB8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76A5-435D-4A21-9F1C-64167A55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C3A5-F2DD-4F30-B215-D76C18A8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1C7F-F385-4C1D-8616-88582150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058D-BF18-4D27-B303-25334D1F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350B4-D8A7-4D94-B642-0FA46B6A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1108-843D-429E-8AD0-273807EE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5EC5-C42B-4F6D-A02A-CB0FE54B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76EA-2E92-43AE-824C-3A963DA89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6A3C-5D6C-41E3-8FF6-92B4BA269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2A20-F6F0-4239-AAD0-C798A6E3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66F6-2FC6-4E5D-978D-BEF347A8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92CD-2A82-4C56-B0AE-049335FE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974F-7E71-4B2B-9559-9F977096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7107-8007-4FB9-954C-2B64D455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6642-790F-455A-819E-FAF715A4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522B-F3C9-4825-98B8-02EF836A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/10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ACE4-EC7C-4887-875D-C1F7F57E8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1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Group 15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8" name="Rectangle 7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Rectangle 8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Rectangle 9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Rectangle 10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Rectangle 11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Rectangle 12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Rectangle 13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Arc 14"/>
              <p:cNvSpPr/>
              <p:nvPr/>
            </p:nvSpPr>
            <p:spPr>
              <a:xfrm>
                <a:off x="752400" y="3587760"/>
                <a:ext cx="198360" cy="1832040"/>
              </a:xfrm>
              <a:prstGeom prst="pie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Oval 16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Rectangle 17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Rectangle 19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4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6" name="Group 12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7" name="Group 10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8" name="AutoShape 2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AutoShape 3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4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5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Rectangle 6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Rectangle 7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Arc 8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prstGeom prst="pie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9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prstGeom prst="pie">
                  <a:avLst/>
                </a:pr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Freeform 11"/>
              <p:cNvSpPr/>
              <p:nvPr/>
            </p:nvSpPr>
            <p:spPr>
              <a:xfrm>
                <a:off x="3886200" y="2873520"/>
                <a:ext cx="514440" cy="366480"/>
              </a:xfrm>
              <a:prstGeom prst="pie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7" name="Rectangle 13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5/10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4892-857D-4F04-834D-ABFFF921384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7"/>
          <p:cNvSpPr/>
          <p:nvPr/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10/5/1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39F4-DE0E-4A19-B756-DF076026D30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w Hope School District Teacher Mentor Program 2010-201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im Blessingt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3" marL="13716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057400" y="2895480"/>
            <a:ext cx="2057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Add </a:t>
            </a:r>
            <a:br>
              <a:rPr sz="2400"/>
            </a:b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rporate</a:t>
            </a:r>
            <a:br>
              <a:rPr sz="2400"/>
            </a:b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Logo</a:t>
            </a:r>
            <a:br>
              <a:rPr sz="2400"/>
            </a:b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He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9555120" y="92160"/>
            <a:ext cx="3733920" cy="6613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insert your company logo on this slid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the Insert Men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Picture”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e your logo fil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resize the lo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anywhere inside the logo. The boxes that appear outside the logo are known as “resize handles.”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these to resize the object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you hold down the shift key before using the resize handles, you will maintain the proportions of the object you wish to resize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2" name="Picture 9" descr="images.jpg"/>
          <p:cNvPicPr/>
          <p:nvPr/>
        </p:nvPicPr>
        <p:blipFill>
          <a:blip r:embed="rId1"/>
          <a:stretch/>
        </p:blipFill>
        <p:spPr>
          <a:xfrm>
            <a:off x="1600200" y="2971800"/>
            <a:ext cx="289548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C3B6-47A5-43C6-8E1E-7F8420412FA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mmit/Beyond Reproa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ork Ethic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ccept responsibiliti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mmit to responsibiliti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stablish successful habi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tegri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onest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lf discipl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u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We want you to be successful!!!!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andard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deal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elineated Standard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AD1A-2573-48CF-AE62-BF3A666C9EC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7 Habits of Highly Effective People (S. Covey 1989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pendence -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fessors/College Train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dependence : Self (private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You know what you need to do and you do i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 Proactiv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gin With An End In Min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t First Things Fir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39AB-7723-46B7-AD02-CA0553B37B5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7 Habits of Highly Effective People (S. Covey 1989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rpersonal (Public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ink Win/Wi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ek First to Understand Then to Be Understoo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ynergiz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7A4D-5195-4066-AF3A-667F840B922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7 Habits of Highly Effective People (S. Covey 1989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rdepende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ac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ar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dministr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ur School Cultures at N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7BA1-D096-472F-A8D9-51E329C6BF3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7 Habits of Highly Effective People (S. Covey 1989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arpen The Saw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ake care of yourself so you will have the capacity to effectively perform in your chosen professio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leep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t Righ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xercis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e your Doctors!! You have GREAT health insurance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ssociate with individuals whom share your ideals and support you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AD74-C963-48E1-AA3C-FA6E9960493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Handboo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etings 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X in Sep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X every mont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re if need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EBDE-5307-4B53-BDE9-71172D326F9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itial Needs Assess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cus Ques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te ASAP and give to your mento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 honest and forthcoming regarding your concerns/need to know topic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9766-9A58-42DF-B128-AA301E0121C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pical Categories for Discus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haustive but not all inclusive.     (Initial &amp; date as discussed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ruction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havioral manag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ogistic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fession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rsonal/Interperson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4E54-0818-4A30-9DE3-B920F16D5CC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nthly description/flow chart of general activiti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Initial &amp; date as completed.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F168-44F2-451F-A499-353EF13F6D1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eep track of your administrative observation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eep track of your administrative appraisal conferenc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ntor Observations/Mode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t “official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g in and learn/confirm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B5FD-48B5-4309-8D90-20BCBAF9EB0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Mentoring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 hires average 15% of a building’s instructional populat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A Typical School Ye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•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6% Teacher Turnov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8% transferred to a different building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8% left teaching altogethe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6076800" y="542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5717160" y="533412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NCES 2005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E9E2-EF5D-4A3A-B046-A6466063FD1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valu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WANT FEEDBACK!!!!!!!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lease be brutally fran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suggestions/observations you make will benefit those whom experience this program after you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4A27-15F2-433D-9417-42DBA69AFD1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eaeaea"/>
                </a:solidFill>
                <a:uFillTx/>
                <a:latin typeface="Arial"/>
              </a:rPr>
              <a:t>Dreibelbis, E. (2002). Plan for Induction of New Teachers 2002-2008. Kinzers, PA: Pequea Valley School District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eaeaea"/>
                </a:solidFill>
                <a:uFillTx/>
                <a:latin typeface="Arial"/>
              </a:rPr>
              <a:t>Framingham Public Schools, Framingham, MA. Framingham public schools mentor program handbook. Retrieved October 5, 2010 from http://www.framingham.k12.ma.us/hr/documents/mentorhandbook07.pdf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eaeaea"/>
                </a:solidFill>
                <a:uFillTx/>
                <a:latin typeface="Arial"/>
              </a:rPr>
              <a:t>Peterson, R. W. (1989). Mentor program handbook. Retrieved June 27, 2005, from http://www.gse.uci.edu.MentorTeacher/Preface.html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eaeaea"/>
                </a:solidFill>
                <a:uFillTx/>
                <a:latin typeface="Arial"/>
              </a:rPr>
              <a:t>Liberty School District, Liberty MO (2002). Liberty professional development planning. Retrieved October 5, 2010, from http://www.liberty.k12.mo.us/jobs/pd/teacher-mentor-program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eaeaea"/>
                </a:solidFill>
                <a:uFillTx/>
                <a:latin typeface="Arial"/>
              </a:rPr>
              <a:t>Oregon Department Of Education (2001). Oregon mentor program handbook. Retrieved October 5, 2010, from http://www.ode.state.or.us/search/page/?id=2218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eaeaea"/>
                </a:solidFill>
                <a:uFillTx/>
                <a:latin typeface="Arial"/>
              </a:rPr>
              <a:t>Rutherford, P. (2005) 21st Century Mentor's Handbook. Alexandria, Va: Just Ask Publications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eaeaea"/>
                </a:solidFill>
                <a:uFillTx/>
                <a:latin typeface="Arial"/>
              </a:rPr>
              <a:t>U.S. Dept. of Education, National Center for Education Statistics. (2005). The Condition of Education 2005, NCES 2005-094, Washington, DC: U.S. Government Printing Offic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489F-4A31-402B-A90B-0A4B1EC33B9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ggested Reading </a:t>
            </a: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(In order of significance.)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vey, S. (1989).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7 habits of highly effective people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ew York: Simon and Schuster.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Time &amp; self management 101!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ber, A. &amp; Mazlish, E. (1995).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to talk so kids can learn at home and in school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ew York: Simon and Schuster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Great anecdotal scenarios concerning common pitfalls, common questions answered, one page "quick reminder" summations of each chapter, "right and wrong" cartoons illustrating classroom management and interactions with students and parents. A definite MUST READ!!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lson, R. (1997).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't sweat the small stuff... and it's all small stuff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ew York: Hyperion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A vista of personal temperament and a good companion to the Covey book.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n, H. J. (1992).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ve learn and pass it on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ashville, TN: Rutledge Hill Press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Thought provoking perspective.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ong, H. &amp; Wong, R (2001). </a:t>
            </a:r>
            <a:r>
              <a:rPr b="0" i="1" lang="en-US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How To Be An Effective Teacher: The First Days Of School.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ountain View, CA: Wong Publications (A step by step “how to” guide packed with great ideas to keep a person from becoming overwhelmed!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3D06-4F8A-491B-B5C2-DA65208BD00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ank You!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2" name="Picture 13" descr="images.jpg"/>
          <p:cNvPicPr/>
          <p:nvPr/>
        </p:nvPicPr>
        <p:blipFill>
          <a:blip r:embed="rId1"/>
          <a:stretch/>
        </p:blipFill>
        <p:spPr>
          <a:xfrm>
            <a:off x="2249640" y="1341360"/>
            <a:ext cx="5406840" cy="5248440"/>
          </a:xfrm>
          <a:prstGeom prst="rect">
            <a:avLst/>
          </a:prstGeom>
          <a:ln w="0">
            <a:noFill/>
          </a:ln>
        </p:spPr>
      </p:pic>
      <p:pic>
        <p:nvPicPr>
          <p:cNvPr id="193" name="Rectangle 10" descr=""/>
          <p:cNvPicPr/>
          <p:nvPr/>
        </p:nvPicPr>
        <p:blipFill>
          <a:blip r:embed="rId2"/>
          <a:stretch/>
        </p:blipFill>
        <p:spPr>
          <a:xfrm>
            <a:off x="1444680" y="2736720"/>
            <a:ext cx="716904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7E75-C6FC-461E-B444-A9022BE2A1D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sons for leaving : (top 5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ck of Planning Tim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orklo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Size/Student Popul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o Low a Sal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blematic Student Behavi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5717160" y="495288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NCES 2005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5250-E947-4BBD-8496-328149694BB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Do the Stats Show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52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at: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WordArt 6"/>
          <p:cNvSpPr txBox="1"/>
          <p:nvPr/>
        </p:nvSpPr>
        <p:spPr>
          <a:xfrm>
            <a:off x="1066680" y="2819520"/>
            <a:ext cx="77724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Jester"/>
              </a:rPr>
              <a:t>Teaching Is Not For Everyone !</a:t>
            </a:r>
            <a:endParaRPr b="0" lang="en-US" sz="24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Jester"/>
              <a:ea typeface="Jest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B2FE-85B0-4BBD-843E-191A5119820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ccess is Cumulative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ccess for New Teac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ccess for Our Prof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ccess for Our Childre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ildren are the world’s most precious commodity and the raw materials which will make up our future societ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057B-C7CF-4212-B8D8-BAC2AA59CD4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ntor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nk or Swim” mental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’m OK…. You’re OK….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n’t need help.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ilu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fficult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Yes, you choose how to do your job, but it’s nice to have options available which have been field test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5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4908-5895-40F9-8959-4DB3CE57972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enefit from our experience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Your Mentors are experts on The New Hope School District and your building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bined years of mentor teaching experience in the room….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6FC2-E484-4003-A52F-181C29FAAF2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is is not a perfect place…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reaucrac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du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tic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ngs that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SHOUL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b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ngs that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…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..and the answer is………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FA0E-275C-4847-9AEE-99B70D8C759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cribble"/>
              </a:rPr>
              <a:t>The Serenity Prayer</a:t>
            </a:r>
            <a:br>
              <a:rPr sz="12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ed5"/>
                </a:solidFill>
                <a:latin typeface="Optima"/>
              </a:rPr>
              <a:t>God grant me the serenity to accept the things I cannot change; courage to change the things I can;  and wisdom to know the difference.</a:t>
            </a:r>
            <a:br>
              <a:rPr sz="2000"/>
            </a:br>
            <a:r>
              <a:rPr b="0" lang="en-US" sz="2000" spc="-1" strike="noStrike">
                <a:solidFill>
                  <a:srgbClr val="ffeed5"/>
                </a:solidFill>
                <a:latin typeface="Optima"/>
              </a:rPr>
              <a:t>Living one day at a time; Enjoying one moment at a time;</a:t>
            </a:r>
            <a:br>
              <a:rPr sz="2000"/>
            </a:br>
            <a:r>
              <a:rPr b="0" lang="en-US" sz="2000" spc="-1" strike="noStrike">
                <a:solidFill>
                  <a:srgbClr val="ffeed5"/>
                </a:solidFill>
                <a:latin typeface="Optima"/>
              </a:rPr>
              <a:t>Accepting hardships as the pathway to peace;</a:t>
            </a:r>
            <a:br>
              <a:rPr sz="2000"/>
            </a:br>
            <a:r>
              <a:rPr b="0" lang="en-US" sz="2000" spc="-1" strike="noStrike">
                <a:solidFill>
                  <a:srgbClr val="ffeed5"/>
                </a:solidFill>
                <a:latin typeface="Optima"/>
              </a:rPr>
              <a:t>Taking, as He did, this sinful world</a:t>
            </a:r>
            <a:br>
              <a:rPr sz="2000"/>
            </a:br>
            <a:r>
              <a:rPr b="0" lang="en-US" sz="2000" spc="-1" strike="noStrike">
                <a:solidFill>
                  <a:srgbClr val="ffeed5"/>
                </a:solidFill>
                <a:latin typeface="Optima"/>
              </a:rPr>
              <a:t>as it is, not as I would have it;</a:t>
            </a:r>
            <a:br>
              <a:rPr sz="2000"/>
            </a:br>
            <a:r>
              <a:rPr b="0" lang="en-US" sz="2000" spc="-1" strike="noStrike">
                <a:solidFill>
                  <a:srgbClr val="ffeed5"/>
                </a:solidFill>
                <a:latin typeface="Optima"/>
              </a:rPr>
              <a:t>Trusting that He will make all things right</a:t>
            </a:r>
            <a:br>
              <a:rPr sz="2000"/>
            </a:br>
            <a:r>
              <a:rPr b="0" lang="en-US" sz="2000" spc="-1" strike="noStrike">
                <a:solidFill>
                  <a:srgbClr val="ffeed5"/>
                </a:solidFill>
                <a:latin typeface="Optima"/>
              </a:rPr>
              <a:t>if I surrender to His Will;</a:t>
            </a:r>
            <a:br>
              <a:rPr sz="2000"/>
            </a:br>
            <a:r>
              <a:rPr b="0" lang="en-US" sz="2000" spc="-1" strike="noStrike">
                <a:solidFill>
                  <a:srgbClr val="ffeed5"/>
                </a:solidFill>
                <a:latin typeface="Optima"/>
              </a:rPr>
              <a:t>That I may be reasonably happy in this life and supremely happy with Him Forever in the next.</a:t>
            </a:r>
            <a:br>
              <a:rPr sz="2000"/>
            </a:br>
            <a:r>
              <a:rPr b="0" lang="en-US" sz="2000" spc="-1" strike="noStrike">
                <a:solidFill>
                  <a:srgbClr val="ffeed5"/>
                </a:solidFill>
                <a:latin typeface="Optima"/>
              </a:rPr>
              <a:t>Amen.</a:t>
            </a:r>
            <a:br>
              <a:rPr sz="2000"/>
            </a:br>
            <a:r>
              <a:rPr b="0" lang="en-US" sz="2000" spc="-1" strike="noStrike">
                <a:solidFill>
                  <a:srgbClr val="ffeed5"/>
                </a:solidFill>
                <a:latin typeface="Optima"/>
              </a:rPr>
              <a:t>--Reinhold Niebuh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01:39:15Z</dcterms:created>
  <dc:creator/>
  <dc:description/>
  <dc:language>en-US</dc:language>
  <cp:lastModifiedBy>Teacher User</cp:lastModifiedBy>
  <cp:lastPrinted>2007-02-04T03:38:54Z</cp:lastPrinted>
  <dcterms:modified xsi:type="dcterms:W3CDTF">2010-10-06T02:25:44Z</dcterms:modified>
  <cp:revision>17</cp:revision>
  <dc:subject/>
  <dc:title>PowerPoint Presentation</dc:title>
</cp:coreProperties>
</file>